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1594-C039-4E5A-BBAF-D40005ECF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1334-F8A3-4471-8FD5-173EC43ED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2103-77B0-45C8-840B-389AE45DC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4950-10F6-41B6-8256-A19D1770C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FFC1-941B-4D10-8751-5544B6008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BB82-D64A-4734-9064-8EB1926AF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E0C2-6CAD-49FB-8F43-33570A57C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4F98-D3C2-4060-874D-81CCB2181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9CF3-08D8-49DF-867D-F1BE2F2D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A44C-8E3C-4ED7-B141-038080B0B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0D46-945B-4582-99B7-CEB7C93F8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EE46-DB0D-4A13-AD4E-594CCD0C3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454D-035D-4C3E-9413-9D16D78E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4E4E-021B-4CCE-B36A-8EAFFF2F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36E9-8E57-4AB5-A0BB-B0EEE0D2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5311-C12A-405D-848A-DF85FBCE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92AD-8269-4929-9AE6-A3D942B6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D519-5642-48F6-8461-E63FE6A7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0127-6AC3-4EE9-BB6B-1C4DD616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1000-A5F4-4965-8B02-CDF4BA51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4402-6D33-491B-926B-60FB7FFE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52CF-FC5C-445C-8EA6-C9A648C5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FD36-C637-4A0C-8917-DC62A5449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64F6-0A04-471E-B505-D02926110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921F-96A8-46E3-B237-A801B716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A044-685D-4FC8-92A4-E226C444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2250-5386-460A-9834-6C2A04CE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F9CC-6AEC-4B6B-8484-18978FFC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5EAF-3559-435D-800F-301D5655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B6B2-53D6-49B9-897C-6E935E1E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9312-CDB1-4359-8D4E-8BBACA30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0089-4576-4D46-AF10-AB843BD12DA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9025-85A7-46A0-A822-23FA8F181AF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Methods of Teaching: </a:t>
            </a:r>
            <a:r>
              <a:rPr b="0" lang="en-US" sz="2100" spc="-1" strike="noStrike">
                <a:solidFill>
                  <a:srgbClr val="006666"/>
                </a:solidFill>
                <a:latin typeface="Arial"/>
              </a:rPr>
              <a:t>Direct Teaching</a:t>
            </a:r>
            <a:r>
              <a:rPr b="0" lang="en-US" sz="21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6666"/>
                </a:solidFill>
                <a:latin typeface="Arial"/>
              </a:rPr>
              <a:t>1</a:t>
            </a:r>
            <a:endParaRPr b="0" lang="en-US" sz="2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it? P. 7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Direct instruction presents information directly through lecturing, questioning, and demonstrating/modeli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do we do it? What do we u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Five steps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Anticipatory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Instruc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Guided Practi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Clos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Independent Practi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447920" y="5638680"/>
            <a:ext cx="76960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When teaching students how to use technology properl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ethods of Teaching: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Problem Based Learning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hat is it? P. 81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Teaching students thinking skills and decision making skill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ow do we do it? What do we use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-Dewey’s steps for problem solving (pg. 83) figure 3.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-Three kinds of thinking (pg. 81) table 3.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Hints for teaching thinking (pg. 91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issues within a deba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610480" cy="11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ethods of Teaching: 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Inductive Thinking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What is it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-Teachers promote group discussion through questions that follow three step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ow do we do it? What do we use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1. Teacher lists students responses to an opening ques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2. Students group their respons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3. Students label or categorize their grouping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-Utilize questions related to the topic at-han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-wait 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20 Questions: Who/What Am I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ethods of Teaching: 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ooperative Learning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What is it?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A popular instructional strategy in which small groups work together toward a common go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How do we do it? What do we use?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How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-students are assigned to group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-group size should be 3-5 member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-the classroom is arranged to facilitate group interac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-group process is taught or reviewed as heeded to assure that the group runs smoothl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Us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-rol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corners- each student moves to a corner representing a teacher-determined alternative on a topic. Groups discuss the assigned topics, then they listen and paraphrase ideas representing other corner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other ideas: round robin, round table, think-pair-share, numbered heads together, jigsaw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ethods of Teaching: Role Playing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What is it?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A method of problem solving that enables participants to explore alternative solutions to a given problem. It is an unrehearsed dramatic presentation, usually more appropriate for children age 9 or older. It is especially useful for controversial issu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How do we do it? What do we use?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You can draw from a piece of literature and act it out. This helps students to remember and better relate to the text. Also, give children a scenario and allow them to act it out in order to help them understand what is right and wrong and why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Role Pla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ethods of Teaching: Simulation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600200"/>
            <a:ext cx="746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What is it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Learning activities that present an artificial problem or event. Tries to duplicate reality, but removes possibility of injury or risk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ow do we do it? What do we use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Mostly used in intermediate grades. Computer-based simulations are most common now, but other non-computer-based simulations are just as great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Computer: Oregon Trail, Star Power,  Seal Hunt, The Pilgrims, Sail America, Stock Mark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Non-Computer: voting, hospital, grocery store/market, TABA (questioning to move students to concepts and generalizations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21:55:05Z</dcterms:created>
  <dc:creator>Miriam</dc:creator>
  <dc:description/>
  <dc:language>en-US</dc:language>
  <cp:lastModifiedBy>testuser</cp:lastModifiedBy>
  <dcterms:modified xsi:type="dcterms:W3CDTF">2009-02-05T17:52:40Z</dcterms:modified>
  <cp:revision>42</cp:revision>
  <dc:subject/>
  <dc:title>Methods of Teaching: Direct Teaching</dc:title>
</cp:coreProperties>
</file>